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EE7-D780-47B4-B97E-49433FFF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245-30BA-44C5-9200-177A9A48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D7141-F38D-45B4-BEFC-C9727B85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0902D-B451-4D64-94CB-433CF5B5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93802-C61A-442E-9564-42B87A88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960F1-D560-4D55-A2EF-2B18046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1F3C2-E4CC-4B27-836D-B6304248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0829E-3F1A-49DA-A16F-6F8A57A2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1B559-FD3A-4353-9E3D-E372DF5B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53309-5053-417B-A739-38532F83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324DC-C2E3-4C13-9AB1-EEE27B59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AEFEF-D237-41EA-8A17-290DC8FE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10D-F23B-40D0-BA5E-C47D8989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A1692-C00F-4A64-9B36-1413F254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9FE04-D412-4057-BCCF-B38CE865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98B3C-0640-4A3A-BFC7-15EB5559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2F088-615F-4CFB-A61D-AFE3FC89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AE5C3-5038-46D1-8859-AD8852C9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97C70-15BE-4860-9B41-F42156EF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9E16E-C1D6-4799-A30E-50EB1E64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4A22D-AE99-4DD5-A886-900F2B6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45EAF-0358-4D5C-BC64-4BB72A16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06591-28DA-4D7F-8EB3-CFB6EED1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EC1-42FF-4094-960E-5E934E5D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E150C-4D09-4F38-A7F2-C0880F25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2EC04-00DF-4E97-8E14-E2C613FE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18E21-25AA-4556-A3D7-64350328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AB92A-D6DC-48E6-AA35-DE57C225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DD262-D807-493A-9071-CE4E0B42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9ACB6-23F8-49F5-BD19-954AEF78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E2E93-7236-47F2-A475-CC7F7B1F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8B288-5AA1-4694-AE30-DB880E4B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7D224-5ED0-49F3-A9CA-500F9A99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2E7FA-9964-47FD-A0CF-68904265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1734-779D-4FBE-8D36-ED83AC5F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0BC35-512D-4B4E-88F3-75C164D4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8B87A-E034-40D1-9C65-518368C7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01EC1-58D1-46AD-91EE-8E22E90F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35147-1CAD-45B2-8045-2CE843D6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F5B60-8079-48D3-AEEE-24002423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4BC36-6CDD-4BC0-B536-6359EE72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7212C-BEF7-447F-9063-76E25F4C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BB1EB-81DA-4A8C-A45F-38F49D0D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A1C57-72E7-4EA2-AF4A-02A09A99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987E4-71CC-4FA2-83AC-A24B8AFB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6EF3-A731-40DE-AC7D-D0078364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4B2C2-4397-4836-B45F-06244E81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71280-8140-42BD-93E3-EFB04E5D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AE56F-4782-430B-8B8F-A279EE8C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687B3-FE82-4B19-9A17-4E39E678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11BF6-6A07-4595-ADA5-B4767108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190CE-93A7-49BC-B881-F37D883B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256E0-6F1F-423E-8C4D-B2299141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47BAE-FE9C-46BA-8842-E742D7BA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84072-AC41-44B5-A509-C8B5D33D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F1CDF-4075-4D91-B3D8-126A9440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D644-551E-4400-B754-34EFF7E2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162E0-E787-4805-AF8E-6BB2115C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44F69-1C9D-48FD-B364-3C5F663E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6B233-91CB-4C50-9112-169DD8A1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59224-F12C-4205-91EB-08FEE557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C6468-A23A-4301-91A3-9D61CB0E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1268F-F422-403B-B278-B1507C85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2B7E8-96B5-4DD7-B8B6-E2F03D68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6C621-EEC3-4B64-9698-27E5E433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28A23-0581-4FFC-BF59-5634CD25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24385-D40C-40E8-BEB5-F7F6493A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1E47-1DE5-4893-B6D0-6CC94E02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2D152-2ED7-4080-820F-0A086F15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B228C-B35D-48E4-8308-9CDCA5CB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3C918-8614-41A5-8848-5DF2E44C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CFDC7-967E-444A-8E5D-F287B91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2C41D5-D6D9-4962-BBBA-932A2958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A16AD-070C-405A-9D3B-7FBDBF14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7952E-A09A-4023-ABC4-6A721489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B698F-29CE-4FFF-BA76-440CC53E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8112B-39C7-4E72-AF93-6F8E431F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03C92-F794-45C4-9764-E22A8D69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B65B-B9D7-43D3-B290-7CED415B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DA1C2-2FC1-4B20-80A0-12AD1FFE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750DA-ACE6-4A94-B3B1-7E0336EF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49B45-3C04-45DF-B37F-16FEE88B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1FFFC-2393-47ED-AC6B-AEE24CD4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2226A-770D-4BC7-BFA2-BB0F6271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7393A-0A9F-4A59-B535-C48A3DC4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2B972-0B8C-4080-AD7F-C3825124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FF2D8-2E2C-4DC0-B7CC-CCC653DF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CC1B4-AC8B-49A7-9A97-DCDDCB2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F8CAC-FBC1-43CE-BDBE-9B2C22E6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A75F-1600-4DF3-AF8A-D3997F72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4EA89-CC6F-4006-87B6-111CB16D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FDC11-E189-4180-8DF7-E83C7F6C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07E82-8456-48B5-A555-57408F74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2A8E43-9CDC-4CF8-BBAC-52E08C5E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911EE-89C0-45C7-AB84-BA6BACA1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73C75-56CC-4E58-8F2D-BD9EB858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3B0978-FD71-409D-A9A3-202C3FAC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168D2B-815D-4DFC-92AD-30A99DFA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B00F6-6F7D-46E9-8C7C-3785EA3C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5460F-8280-4467-A6A4-35E07165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EE09-E288-4FEA-B0F4-BD0370B6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754B3-40AA-4BC0-9C67-06B023C6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354B5-037D-4CE8-8413-59152DF1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AD853-F352-4E2C-8BED-E62F769E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58B9A-C1A5-4BEC-8F33-1CD1518A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E6861-E477-4389-A223-4E4D276D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57538-47B6-471B-9BFF-1215308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DF6D7-3FBC-47F5-97AA-88242CD4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BE8D7-AF86-4F5C-A6E3-C1C9AF18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34C79-7B22-40A7-90A4-9440C546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1E439-FB0F-42B5-B212-17C6D8F7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662-6F7F-4C35-BC27-00BED507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7C38-9F83-41AB-94AD-369D75DB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8575C-D9B4-41F6-A055-8811FA2B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4F0DE-1D52-4557-B80B-BE191C6A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14286-DD7F-4FB5-8772-D800FCE4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59B174-0381-47FB-B6B7-4880AB5F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055E5-6A77-466F-AA6E-E4DF19E6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A9F40D-7B26-47FC-B355-F4ACB32B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E1F1E7-95B3-4EF6-A916-3BB109F4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3D07CC-AF71-4F8B-987B-28CF9485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A2575-27C8-4600-B3D2-BF101E5E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74539-C9D2-4AA1-B4CC-38DFAE92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D991-838F-4519-AB9E-412887F2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18757-2938-48BF-BDA6-3D52AD24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67072-EAA8-4749-B82F-16779870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030C25-F532-4FFA-BC7B-D1CD642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8805B-7C62-4998-B4D6-63BFF6B8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2D8B24-BEF6-4701-8029-974F37C9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7DFC6-544D-4128-9C7C-830CB981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17D9E-F7A2-416B-8E34-880C931B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2D8FD-CBBC-49BD-A7DD-3C0C60D2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D866D2-D4F9-4DC4-A964-719E1B5B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4AB692-8B0A-447F-A385-8A3C47E3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FFE0-51A9-41C7-81F5-479324B2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3297B-632D-4BBF-8817-CF3A6B89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80F132-8227-4F00-97F1-02CDFFB3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EADE43-5562-4EF9-BACF-279EF7FE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8C12D-CE0D-4EB1-82D2-032B599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FBAC39-EAFB-48E8-9F93-38ADA31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9D2E2-5287-4149-BDC9-03F57632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5701B-D829-4AE3-AB60-B5660AA8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0874A5-2A1B-4132-9F98-582A05F1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3084E4-E32E-4E13-BC09-8B376BBA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E0F7DE-E937-43A4-A225-6FAC0774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09E2-8E41-4CC0-BD03-5A759929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F3CCEE-C88E-4CAB-8786-266707A2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3F3E2E-61EE-44AF-BA0B-B7F91FD6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EC9DA-9415-44EC-ABDD-4DB884FA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EF70E-96C6-4885-95F6-B3CF79A2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EFA4BD-9070-47B6-82CA-2D0BAC3D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8F4AC-0407-4CDA-914B-8C86653F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9D0EBA-1D5C-4947-8BF3-D853CDB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69E016-9B16-42A4-A308-9E6CCBE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11D3D-C7E0-4BFF-9C90-3F38C956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6489B-FFB1-421F-8B3E-556D381D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0853-6FB2-4515-8F18-634F2E0B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4A79D7-B249-4A37-A600-3DBFF4BB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C7D7A0-6837-4479-8FC7-2B4B98E5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12DD58-B72E-404D-B379-577EDA80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D4E09-DF1A-4E50-A993-467C4A9D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F67F01-C870-4B6C-B472-3237EF1B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D35B3-581A-4586-9C23-673D7940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1F251E-80FD-42C4-A8F6-B927E152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128DAF-D5DA-4CD6-A1FA-EFB8BF1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8824F4-5D43-4F74-8099-0497887D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78C55-E08C-4C10-A1F2-36B7D133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42F69-C628-495D-A5EB-07E87230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EEA767-9467-40B7-8E0F-EF124CEA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E394A9-1A8A-43F0-9A50-F05D9A9C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446B61-4C0A-423A-BD82-4B988F12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35D1-FA89-417C-B758-5A0CD988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61E09-2C0E-4B25-AE3E-8BFBF921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F3D7-D540-437A-9ED0-95D100E4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249D-C176-480B-BC4A-C0C2B619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338-F5C1-45EB-81FC-0441D3F5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9947-DBD6-4E69-818F-73C20729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C7DD1-AA78-4D77-8E81-83F47F68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B914-2BCB-4D28-AD70-7D31BE2B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3FC0A-86E7-4447-A958-804AC5B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77ADB-EF09-43B6-A998-C357828B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321D-C6E6-4ECC-AB21-3DF093FA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7AA3-CDDC-4F2D-8089-FB9B396F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70AA-A4AC-4994-85B6-BA9070E7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3139C-BD0D-4785-AB7A-2FC5079A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44AE2-9C2A-4997-8940-DB6D2B56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7C3-9395-4256-91AC-9212717A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74A5-3288-4BB5-9561-6311C9E2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55C8D-2840-4FB9-88A0-94BD9D79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B751-8C27-480D-BE22-E7BD3334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394BF-2442-43E0-92DB-AF6142A9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90105-17B8-45D0-91A9-DE87A7FE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D2093-F43D-4D37-874B-A073E2BF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AD66F-9293-4CCB-9F3C-24562A77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A4C3-71E6-4795-A515-5E1DF129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4EA18-A25C-4DB2-8CEE-BF0527B1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92B02-AD70-4F63-981B-4C20CA2B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ECE-0021-4274-A6B9-1C39FDE8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10F6B-1C12-4E25-92CC-55A3F153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1EF07-BC81-414F-89C2-287075CB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B272C-5FCC-464D-BD97-C0E90B2D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13443-C01A-4016-9BC4-77FEF292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12E15-CFCB-408F-B98E-69DDC6A0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832CA-69B9-49B8-B6B8-319C8065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F6C8-FF93-4E74-BB7C-CD06D0F7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AF7CD-7645-41F4-B874-3BDF256A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0A135-8558-4DB0-9ADE-942568FD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BAC37-3DD8-42B0-BF37-8C2D38CA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339-6CB8-4768-9D89-15588344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E81B4-C8DE-4497-95AD-7BB50921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1ADA0-C1CB-4C6A-B0AB-F8FF6170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2F7D0-932E-4528-AFA0-1F1141F6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4FC1E-AEB6-4889-B286-5DC7FB71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8D51C-9D1D-4B95-ABE8-B4EF5625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22B1E-FE27-46E0-82C5-DD560466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32667-E923-46DC-8D11-02B4B3CB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A4B22-8781-4318-A211-4399CAB5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C7E25-6381-451F-8194-9DB1589D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DC070-F4D3-4476-B4E6-4E8E037D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DF7-76FD-4B61-8984-7B2C8095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2883F-BEDF-429B-BBEA-2DD3A66D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936DD-309B-4A87-89FA-A82E06F3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7E199-314E-4EB8-B7D5-07952BF9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EC5B1-AC29-4C10-84E5-27076013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DC604-FEE8-4AC5-8FFB-BD3C829D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FCD3-241C-4864-BB38-7A14D469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62C34-562A-458C-A280-315CECF1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3ED78-EAD2-4E9E-92A3-110A2015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67874-C2D8-4B8B-9CC5-16EB10B9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B4BFC-2A15-4EB0-AAF4-DEEDE043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071-E669-4DF5-9ACD-D0BA5091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C20B1-8DAF-43EC-BC1C-7C25C4C9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7000E-7800-4F4A-B648-EB1BD2CA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FAED5-F611-496B-B6A0-E83A5E3C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31A97-4D52-434A-92BB-9B105627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58C5E-E249-4ADD-A9F9-63994791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ABF2B-0BD1-4713-A803-75788529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C504B-20A9-439F-A102-B0BBD1E5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38B2B-514B-4554-B365-43E9ACE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A4CBC-494F-4FB0-81D9-D9ADE95E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886FD-45DF-4279-9E41-BD867E07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793-AE2B-4743-B352-6B59D92B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44B00-6428-47EE-B2B6-6B203046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BEFFF-BDB2-408D-A7C7-ACAE40A0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6FA68-A451-498C-B07E-17D0E986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FD898-C1C3-4DD9-A5E5-8952920C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0E86A-E570-487D-B4FB-A6786276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310D3-6887-4F9F-BD85-FC812AE6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AB750-1BBD-4F5F-888D-065B5772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7635D-F518-4BD6-AA7D-FAAA3DE6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242A9-36B1-45CA-BBFF-9EE9E060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F9512-0386-445C-9654-8774273A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031C-F1FF-4F77-8E6A-BB6B40710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3861-FC12-4FA5-B72F-07ABBB38DB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9A27-FE03-4BE5-BF08-D0F22594F9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FEBD-ED41-4880-99D0-8AD328BD1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E8C1-BC3C-4DA5-9E7E-8CCC8242AF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83E7-CEB9-4410-BB92-6930203D0D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5704-3821-4BF4-91D9-85AF44BEB1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10E4-6507-473E-9A67-7E2BB08B87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6AE7-6973-4974-AEBE-178D5C756F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386F-A199-4FFC-9BF2-5735C77E0B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27F5-13BC-45E4-9960-C6A222C3A3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3408-9646-4757-872F-C740D777EA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B84C-08C0-4DE7-879F-EBF3D53F1C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6C9F-B8C9-49FC-ABCE-8CEE557FD8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A020-D1D9-4D28-B49D-2E226E0835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81C8-50C2-4141-9899-4893C9D28A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7C38-85E3-46E3-96DA-1E4D61D189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B09A-F2A0-4B48-96BE-A916D3B8EE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ACBD-76EB-464A-852B-371ADBE570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52D8-D74F-44A9-8189-0FE5ED500F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6022-A385-43EC-B73E-FFA6CAB59D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C567-B6D6-4682-8A8E-86983873EF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9388-768D-4B90-B582-82C7EC8E4E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F3D4-CA37-42B6-BC9E-8277E4EBB3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E616-2BDD-40FF-9433-34DF361E59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4AB3-ADD9-4F92-9564-AD7EF0C7B2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3DE9-D3BA-43AF-9C01-B085889F7E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325B-8DDE-483E-9253-3116B2359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BB4E-E062-4705-B147-22BE7415DB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AB0F-7BED-4F48-95FA-78644B01E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18C1-EA95-46D1-AEFF-598E7BF804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8398-7164-4C3C-B858-2A39E0B354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9C89-FC49-4A41-9036-629F662A51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C936-89DB-4497-B864-ADF9C4362C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A50A-8C51-4065-8CF3-C11B641087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5B6B-1F9B-4868-B10F-04479FBC67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3358-68B2-4E1C-AB21-3A90B66817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879D-5F7B-4C50-B420-2174B4792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3EBF-81B6-44E6-9136-A22641CBE6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200C-44C2-4CE8-97DE-C4A0FEC921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357280" y="2286000"/>
            <a:ext cx="4172040" cy="6001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2052720" y="3357720"/>
            <a:ext cx="4591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Picture 1" descr=""/>
          <p:cNvPicPr/>
          <p:nvPr/>
        </p:nvPicPr>
        <p:blipFill>
          <a:blip r:embed="rId1"/>
          <a:stretch/>
        </p:blipFill>
        <p:spPr>
          <a:xfrm>
            <a:off x="357120" y="771480"/>
            <a:ext cx="8515440" cy="59436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" descr=""/>
          <p:cNvPicPr/>
          <p:nvPr/>
        </p:nvPicPr>
        <p:blipFill>
          <a:blip r:embed="rId2"/>
          <a:stretch/>
        </p:blipFill>
        <p:spPr>
          <a:xfrm>
            <a:off x="6307200" y="2714760"/>
            <a:ext cx="2457360" cy="218124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3"/>
          <a:stretch/>
        </p:blipFill>
        <p:spPr>
          <a:xfrm>
            <a:off x="285840" y="2722680"/>
            <a:ext cx="6000840" cy="3985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4"/>
          <a:stretch/>
        </p:blipFill>
        <p:spPr>
          <a:xfrm>
            <a:off x="285840" y="3193920"/>
            <a:ext cx="6000840" cy="3985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5"/>
          <a:stretch/>
        </p:blipFill>
        <p:spPr>
          <a:xfrm>
            <a:off x="285840" y="3641760"/>
            <a:ext cx="6000840" cy="398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6"/>
          <a:stretch/>
        </p:blipFill>
        <p:spPr>
          <a:xfrm>
            <a:off x="285840" y="4102200"/>
            <a:ext cx="6000840" cy="398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7"/>
          <a:stretch/>
        </p:blipFill>
        <p:spPr>
          <a:xfrm>
            <a:off x="285840" y="4541760"/>
            <a:ext cx="6000840" cy="398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8"/>
          <a:stretch/>
        </p:blipFill>
        <p:spPr>
          <a:xfrm>
            <a:off x="285840" y="500076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9"/>
          <a:stretch/>
        </p:blipFill>
        <p:spPr>
          <a:xfrm>
            <a:off x="285840" y="54594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10"/>
          <a:stretch/>
        </p:blipFill>
        <p:spPr>
          <a:xfrm>
            <a:off x="285840" y="6012000"/>
            <a:ext cx="87868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Picture 2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467920" cy="56390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2"/>
          <a:stretch/>
        </p:blipFill>
        <p:spPr>
          <a:xfrm>
            <a:off x="285840" y="3745080"/>
            <a:ext cx="5572080" cy="3981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3"/>
          <a:stretch/>
        </p:blipFill>
        <p:spPr>
          <a:xfrm>
            <a:off x="285840" y="4173480"/>
            <a:ext cx="5572080" cy="398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4"/>
          <a:stretch/>
        </p:blipFill>
        <p:spPr>
          <a:xfrm>
            <a:off x="285840" y="4613400"/>
            <a:ext cx="5572080" cy="3981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5"/>
          <a:stretch/>
        </p:blipFill>
        <p:spPr>
          <a:xfrm>
            <a:off x="285840" y="5091120"/>
            <a:ext cx="5572080" cy="398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6"/>
          <a:stretch/>
        </p:blipFill>
        <p:spPr>
          <a:xfrm>
            <a:off x="285840" y="5530680"/>
            <a:ext cx="5572080" cy="398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7"/>
          <a:stretch/>
        </p:blipFill>
        <p:spPr>
          <a:xfrm>
            <a:off x="285840" y="6031080"/>
            <a:ext cx="878688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Picture 1" descr=""/>
          <p:cNvPicPr/>
          <p:nvPr/>
        </p:nvPicPr>
        <p:blipFill>
          <a:blip r:embed="rId1"/>
          <a:stretch/>
        </p:blipFill>
        <p:spPr>
          <a:xfrm>
            <a:off x="785880" y="857160"/>
            <a:ext cx="7962840" cy="32767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2"/>
          <a:stretch/>
        </p:blipFill>
        <p:spPr>
          <a:xfrm>
            <a:off x="285840" y="8460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3"/>
          <a:stretch/>
        </p:blipFill>
        <p:spPr>
          <a:xfrm>
            <a:off x="285840" y="13572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4"/>
          <a:stretch/>
        </p:blipFill>
        <p:spPr>
          <a:xfrm>
            <a:off x="285840" y="18050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5"/>
          <a:stretch/>
        </p:blipFill>
        <p:spPr>
          <a:xfrm>
            <a:off x="285840" y="22543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6"/>
          <a:stretch/>
        </p:blipFill>
        <p:spPr>
          <a:xfrm>
            <a:off x="285840" y="26827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"/>
          <p:cNvPicPr/>
          <p:nvPr/>
        </p:nvPicPr>
        <p:blipFill>
          <a:blip r:embed="rId7"/>
          <a:stretch/>
        </p:blipFill>
        <p:spPr>
          <a:xfrm>
            <a:off x="285840" y="3213000"/>
            <a:ext cx="87868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Picture 1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372520" cy="54961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3" descr=""/>
          <p:cNvPicPr/>
          <p:nvPr/>
        </p:nvPicPr>
        <p:blipFill>
          <a:blip r:embed="rId2"/>
          <a:stretch/>
        </p:blipFill>
        <p:spPr>
          <a:xfrm>
            <a:off x="6235560" y="2786040"/>
            <a:ext cx="2562480" cy="22287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4" descr=""/>
          <p:cNvPicPr/>
          <p:nvPr/>
        </p:nvPicPr>
        <p:blipFill>
          <a:blip r:embed="rId3"/>
          <a:stretch/>
        </p:blipFill>
        <p:spPr>
          <a:xfrm>
            <a:off x="285840" y="3305160"/>
            <a:ext cx="5857920" cy="398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4" descr=""/>
          <p:cNvPicPr/>
          <p:nvPr/>
        </p:nvPicPr>
        <p:blipFill>
          <a:blip r:embed="rId4"/>
          <a:stretch/>
        </p:blipFill>
        <p:spPr>
          <a:xfrm>
            <a:off x="285840" y="3755880"/>
            <a:ext cx="5857920" cy="398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"/>
          <p:cNvPicPr/>
          <p:nvPr/>
        </p:nvPicPr>
        <p:blipFill>
          <a:blip r:embed="rId5"/>
          <a:stretch/>
        </p:blipFill>
        <p:spPr>
          <a:xfrm>
            <a:off x="285840" y="4194000"/>
            <a:ext cx="5857920" cy="398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" descr=""/>
          <p:cNvPicPr/>
          <p:nvPr/>
        </p:nvPicPr>
        <p:blipFill>
          <a:blip r:embed="rId6"/>
          <a:stretch/>
        </p:blipFill>
        <p:spPr>
          <a:xfrm>
            <a:off x="285840" y="4662360"/>
            <a:ext cx="5857920" cy="398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"/>
          <p:cNvPicPr/>
          <p:nvPr/>
        </p:nvPicPr>
        <p:blipFill>
          <a:blip r:embed="rId7"/>
          <a:stretch/>
        </p:blipFill>
        <p:spPr>
          <a:xfrm>
            <a:off x="285840" y="51228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4" descr=""/>
          <p:cNvPicPr/>
          <p:nvPr/>
        </p:nvPicPr>
        <p:blipFill>
          <a:blip r:embed="rId8"/>
          <a:stretch/>
        </p:blipFill>
        <p:spPr>
          <a:xfrm>
            <a:off x="285840" y="55720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4" descr=""/>
          <p:cNvPicPr/>
          <p:nvPr/>
        </p:nvPicPr>
        <p:blipFill>
          <a:blip r:embed="rId9"/>
          <a:stretch/>
        </p:blipFill>
        <p:spPr>
          <a:xfrm>
            <a:off x="285840" y="6031080"/>
            <a:ext cx="878688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3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7562880" cy="32382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4" descr=""/>
          <p:cNvPicPr/>
          <p:nvPr/>
        </p:nvPicPr>
        <p:blipFill>
          <a:blip r:embed="rId2"/>
          <a:stretch/>
        </p:blipFill>
        <p:spPr>
          <a:xfrm>
            <a:off x="285840" y="10508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4" descr=""/>
          <p:cNvPicPr/>
          <p:nvPr/>
        </p:nvPicPr>
        <p:blipFill>
          <a:blip r:embed="rId3"/>
          <a:stretch/>
        </p:blipFill>
        <p:spPr>
          <a:xfrm>
            <a:off x="285840" y="15080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4" descr=""/>
          <p:cNvPicPr/>
          <p:nvPr/>
        </p:nvPicPr>
        <p:blipFill>
          <a:blip r:embed="rId4"/>
          <a:stretch/>
        </p:blipFill>
        <p:spPr>
          <a:xfrm>
            <a:off x="285840" y="19684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4" descr=""/>
          <p:cNvPicPr/>
          <p:nvPr/>
        </p:nvPicPr>
        <p:blipFill>
          <a:blip r:embed="rId5"/>
          <a:stretch/>
        </p:blipFill>
        <p:spPr>
          <a:xfrm>
            <a:off x="285840" y="24289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4" descr=""/>
          <p:cNvPicPr/>
          <p:nvPr/>
        </p:nvPicPr>
        <p:blipFill>
          <a:blip r:embed="rId6"/>
          <a:stretch/>
        </p:blipFill>
        <p:spPr>
          <a:xfrm>
            <a:off x="285840" y="28764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4" descr=""/>
          <p:cNvPicPr/>
          <p:nvPr/>
        </p:nvPicPr>
        <p:blipFill>
          <a:blip r:embed="rId7"/>
          <a:stretch/>
        </p:blipFill>
        <p:spPr>
          <a:xfrm>
            <a:off x="285840" y="3398760"/>
            <a:ext cx="878688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0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Picture 2" descr=""/>
          <p:cNvPicPr/>
          <p:nvPr/>
        </p:nvPicPr>
        <p:blipFill>
          <a:blip r:embed="rId1"/>
          <a:stretch/>
        </p:blipFill>
        <p:spPr>
          <a:xfrm>
            <a:off x="285840" y="824040"/>
            <a:ext cx="8429400" cy="59626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3" descr=""/>
          <p:cNvPicPr/>
          <p:nvPr/>
        </p:nvPicPr>
        <p:blipFill>
          <a:blip r:embed="rId2"/>
          <a:stretch/>
        </p:blipFill>
        <p:spPr>
          <a:xfrm>
            <a:off x="2143080" y="2306520"/>
            <a:ext cx="5524560" cy="252432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4" descr=""/>
          <p:cNvPicPr/>
          <p:nvPr/>
        </p:nvPicPr>
        <p:blipFill>
          <a:blip r:embed="rId3"/>
          <a:stretch/>
        </p:blipFill>
        <p:spPr>
          <a:xfrm>
            <a:off x="285840" y="575640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4" descr=""/>
          <p:cNvPicPr/>
          <p:nvPr/>
        </p:nvPicPr>
        <p:blipFill>
          <a:blip r:embed="rId4"/>
          <a:stretch/>
        </p:blipFill>
        <p:spPr>
          <a:xfrm>
            <a:off x="285840" y="6192720"/>
            <a:ext cx="87868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7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7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Picture 2" descr=""/>
          <p:cNvPicPr/>
          <p:nvPr/>
        </p:nvPicPr>
        <p:blipFill>
          <a:blip r:embed="rId1"/>
          <a:stretch/>
        </p:blipFill>
        <p:spPr>
          <a:xfrm>
            <a:off x="714240" y="1071720"/>
            <a:ext cx="7705800" cy="540036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4" descr=""/>
          <p:cNvPicPr/>
          <p:nvPr/>
        </p:nvPicPr>
        <p:blipFill>
          <a:blip r:embed="rId2"/>
          <a:stretch/>
        </p:blipFill>
        <p:spPr>
          <a:xfrm>
            <a:off x="285840" y="107172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4" descr=""/>
          <p:cNvPicPr/>
          <p:nvPr/>
        </p:nvPicPr>
        <p:blipFill>
          <a:blip r:embed="rId3"/>
          <a:stretch/>
        </p:blipFill>
        <p:spPr>
          <a:xfrm>
            <a:off x="285840" y="1622520"/>
            <a:ext cx="8786880" cy="7524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4" descr=""/>
          <p:cNvPicPr/>
          <p:nvPr/>
        </p:nvPicPr>
        <p:blipFill>
          <a:blip r:embed="rId4"/>
          <a:stretch/>
        </p:blipFill>
        <p:spPr>
          <a:xfrm>
            <a:off x="285840" y="24494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4" descr=""/>
          <p:cNvPicPr/>
          <p:nvPr/>
        </p:nvPicPr>
        <p:blipFill>
          <a:blip r:embed="rId5"/>
          <a:stretch/>
        </p:blipFill>
        <p:spPr>
          <a:xfrm>
            <a:off x="285840" y="2878200"/>
            <a:ext cx="8786880" cy="54756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4" descr=""/>
          <p:cNvPicPr/>
          <p:nvPr/>
        </p:nvPicPr>
        <p:blipFill>
          <a:blip r:embed="rId6"/>
          <a:stretch/>
        </p:blipFill>
        <p:spPr>
          <a:xfrm>
            <a:off x="285840" y="3511440"/>
            <a:ext cx="878688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4" descr=""/>
          <p:cNvPicPr/>
          <p:nvPr/>
        </p:nvPicPr>
        <p:blipFill>
          <a:blip r:embed="rId7"/>
          <a:stretch/>
        </p:blipFill>
        <p:spPr>
          <a:xfrm>
            <a:off x="285840" y="4376880"/>
            <a:ext cx="8786880" cy="70956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4" descr=""/>
          <p:cNvPicPr/>
          <p:nvPr/>
        </p:nvPicPr>
        <p:blipFill>
          <a:blip r:embed="rId8"/>
          <a:stretch/>
        </p:blipFill>
        <p:spPr>
          <a:xfrm>
            <a:off x="285840" y="5245200"/>
            <a:ext cx="8786880" cy="73476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4" descr=""/>
          <p:cNvPicPr/>
          <p:nvPr/>
        </p:nvPicPr>
        <p:blipFill>
          <a:blip r:embed="rId9"/>
          <a:stretch/>
        </p:blipFill>
        <p:spPr>
          <a:xfrm>
            <a:off x="285840" y="600084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9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4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4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Picture 1" descr=""/>
          <p:cNvPicPr/>
          <p:nvPr/>
        </p:nvPicPr>
        <p:blipFill>
          <a:blip r:embed="rId1"/>
          <a:stretch/>
        </p:blipFill>
        <p:spPr>
          <a:xfrm>
            <a:off x="714240" y="928800"/>
            <a:ext cx="7601040" cy="24858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4" descr=""/>
          <p:cNvPicPr/>
          <p:nvPr/>
        </p:nvPicPr>
        <p:blipFill>
          <a:blip r:embed="rId2"/>
          <a:stretch/>
        </p:blipFill>
        <p:spPr>
          <a:xfrm>
            <a:off x="285840" y="917640"/>
            <a:ext cx="8786880" cy="7430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4" descr=""/>
          <p:cNvPicPr/>
          <p:nvPr/>
        </p:nvPicPr>
        <p:blipFill>
          <a:blip r:embed="rId3"/>
          <a:stretch/>
        </p:blipFill>
        <p:spPr>
          <a:xfrm>
            <a:off x="285840" y="17859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4" descr=""/>
          <p:cNvPicPr/>
          <p:nvPr/>
        </p:nvPicPr>
        <p:blipFill>
          <a:blip r:embed="rId4"/>
          <a:stretch/>
        </p:blipFill>
        <p:spPr>
          <a:xfrm>
            <a:off x="285840" y="22748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4" descr=""/>
          <p:cNvPicPr/>
          <p:nvPr/>
        </p:nvPicPr>
        <p:blipFill>
          <a:blip r:embed="rId5"/>
          <a:stretch/>
        </p:blipFill>
        <p:spPr>
          <a:xfrm>
            <a:off x="285840" y="281628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6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1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6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410320" cy="53053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285840" y="254952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285840" y="2978280"/>
            <a:ext cx="5429160" cy="3981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285840" y="340668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285840" y="3873600"/>
            <a:ext cx="5429160" cy="7207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6"/>
          <a:stretch/>
        </p:blipFill>
        <p:spPr>
          <a:xfrm>
            <a:off x="285840" y="46339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7"/>
          <a:stretch/>
        </p:blipFill>
        <p:spPr>
          <a:xfrm>
            <a:off x="285840" y="50515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8"/>
          <a:stretch/>
        </p:blipFill>
        <p:spPr>
          <a:xfrm>
            <a:off x="285840" y="54799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9"/>
          <a:stretch/>
        </p:blipFill>
        <p:spPr>
          <a:xfrm>
            <a:off x="285840" y="59198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10"/>
          <a:stretch/>
        </p:blipFill>
        <p:spPr>
          <a:xfrm>
            <a:off x="5857920" y="2460600"/>
            <a:ext cx="27241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458200" cy="5648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6000840" y="2786040"/>
            <a:ext cx="2762280" cy="2828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3"/>
          <a:stretch/>
        </p:blipFill>
        <p:spPr>
          <a:xfrm>
            <a:off x="285840" y="2816280"/>
            <a:ext cx="5572080" cy="3985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4"/>
          <a:stretch/>
        </p:blipFill>
        <p:spPr>
          <a:xfrm>
            <a:off x="285840" y="3244680"/>
            <a:ext cx="5572080" cy="398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5"/>
          <a:stretch/>
        </p:blipFill>
        <p:spPr>
          <a:xfrm>
            <a:off x="285840" y="3679920"/>
            <a:ext cx="5572080" cy="398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6"/>
          <a:stretch/>
        </p:blipFill>
        <p:spPr>
          <a:xfrm>
            <a:off x="285840" y="4102200"/>
            <a:ext cx="5572080" cy="3985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7"/>
          <a:stretch/>
        </p:blipFill>
        <p:spPr>
          <a:xfrm>
            <a:off x="285840" y="4510080"/>
            <a:ext cx="5572080" cy="3985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8"/>
          <a:stretch/>
        </p:blipFill>
        <p:spPr>
          <a:xfrm>
            <a:off x="285840" y="4908600"/>
            <a:ext cx="5572080" cy="3985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9"/>
          <a:stretch/>
        </p:blipFill>
        <p:spPr>
          <a:xfrm>
            <a:off x="285840" y="5367240"/>
            <a:ext cx="5572080" cy="3985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10"/>
          <a:stretch/>
        </p:blipFill>
        <p:spPr>
          <a:xfrm>
            <a:off x="285840" y="57657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11"/>
          <a:stretch/>
        </p:blipFill>
        <p:spPr>
          <a:xfrm>
            <a:off x="285840" y="623736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1071720" y="857160"/>
            <a:ext cx="6143400" cy="15145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2" descr=""/>
          <p:cNvPicPr/>
          <p:nvPr/>
        </p:nvPicPr>
        <p:blipFill>
          <a:blip r:embed="rId2"/>
          <a:stretch/>
        </p:blipFill>
        <p:spPr>
          <a:xfrm>
            <a:off x="357120" y="3071880"/>
            <a:ext cx="8305920" cy="3038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3"/>
          <a:stretch/>
        </p:blipFill>
        <p:spPr>
          <a:xfrm>
            <a:off x="785880" y="6286680"/>
            <a:ext cx="5514840" cy="3808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285840" y="8874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5"/>
          <a:stretch/>
        </p:blipFill>
        <p:spPr>
          <a:xfrm>
            <a:off x="285840" y="14176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6"/>
          <a:stretch/>
        </p:blipFill>
        <p:spPr>
          <a:xfrm>
            <a:off x="285840" y="19288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7"/>
          <a:stretch/>
        </p:blipFill>
        <p:spPr>
          <a:xfrm>
            <a:off x="285840" y="626580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1500120" y="785880"/>
            <a:ext cx="6201000" cy="24480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2"/>
          <a:stretch/>
        </p:blipFill>
        <p:spPr>
          <a:xfrm>
            <a:off x="500040" y="3424320"/>
            <a:ext cx="7972560" cy="33624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1571760" y="735120"/>
            <a:ext cx="6010200" cy="25146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4"/>
          <a:stretch/>
        </p:blipFill>
        <p:spPr>
          <a:xfrm>
            <a:off x="285840" y="33973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5"/>
          <a:stretch/>
        </p:blipFill>
        <p:spPr>
          <a:xfrm>
            <a:off x="285840" y="38163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6"/>
          <a:stretch/>
        </p:blipFill>
        <p:spPr>
          <a:xfrm>
            <a:off x="285840" y="4297320"/>
            <a:ext cx="8786880" cy="6843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7"/>
          <a:stretch/>
        </p:blipFill>
        <p:spPr>
          <a:xfrm>
            <a:off x="285840" y="50515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8"/>
          <a:stretch/>
        </p:blipFill>
        <p:spPr>
          <a:xfrm>
            <a:off x="285840" y="54705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9"/>
          <a:stretch/>
        </p:blipFill>
        <p:spPr>
          <a:xfrm>
            <a:off x="285840" y="59086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10"/>
          <a:stretch/>
        </p:blipFill>
        <p:spPr>
          <a:xfrm>
            <a:off x="285840" y="6337440"/>
            <a:ext cx="878688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347760" y="843120"/>
            <a:ext cx="8448480" cy="48006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2" descr=""/>
          <p:cNvPicPr/>
          <p:nvPr/>
        </p:nvPicPr>
        <p:blipFill>
          <a:blip r:embed="rId2"/>
          <a:stretch/>
        </p:blipFill>
        <p:spPr>
          <a:xfrm>
            <a:off x="285840" y="5757840"/>
            <a:ext cx="8524800" cy="10288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3"/>
          <a:stretch/>
        </p:blipFill>
        <p:spPr>
          <a:xfrm>
            <a:off x="6572160" y="2346480"/>
            <a:ext cx="2162160" cy="2076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4"/>
          <a:stretch/>
        </p:blipFill>
        <p:spPr>
          <a:xfrm>
            <a:off x="285840" y="2408400"/>
            <a:ext cx="6143400" cy="3981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5"/>
          <a:stretch/>
        </p:blipFill>
        <p:spPr>
          <a:xfrm>
            <a:off x="285840" y="2857680"/>
            <a:ext cx="6143400" cy="3981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6"/>
          <a:stretch/>
        </p:blipFill>
        <p:spPr>
          <a:xfrm>
            <a:off x="285840" y="3336840"/>
            <a:ext cx="6143400" cy="3985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7"/>
          <a:stretch/>
        </p:blipFill>
        <p:spPr>
          <a:xfrm>
            <a:off x="285840" y="3745080"/>
            <a:ext cx="6143400" cy="3981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8"/>
          <a:stretch/>
        </p:blipFill>
        <p:spPr>
          <a:xfrm>
            <a:off x="285840" y="4184640"/>
            <a:ext cx="6143400" cy="3985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9"/>
          <a:stretch/>
        </p:blipFill>
        <p:spPr>
          <a:xfrm>
            <a:off x="285840" y="46735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10"/>
          <a:stretch/>
        </p:blipFill>
        <p:spPr>
          <a:xfrm>
            <a:off x="285840" y="512280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8153280" cy="5495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2"/>
          <a:stretch/>
        </p:blipFill>
        <p:spPr>
          <a:xfrm>
            <a:off x="285840" y="1968480"/>
            <a:ext cx="5929200" cy="3985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3"/>
          <a:stretch/>
        </p:blipFill>
        <p:spPr>
          <a:xfrm>
            <a:off x="285840" y="2449440"/>
            <a:ext cx="5929200" cy="3985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4"/>
          <a:stretch/>
        </p:blipFill>
        <p:spPr>
          <a:xfrm>
            <a:off x="285840" y="2917800"/>
            <a:ext cx="5929200" cy="3985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5"/>
          <a:stretch/>
        </p:blipFill>
        <p:spPr>
          <a:xfrm>
            <a:off x="285840" y="3368520"/>
            <a:ext cx="5929200" cy="3985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6"/>
          <a:stretch/>
        </p:blipFill>
        <p:spPr>
          <a:xfrm>
            <a:off x="285840" y="3805200"/>
            <a:ext cx="5929200" cy="3985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7"/>
          <a:stretch/>
        </p:blipFill>
        <p:spPr>
          <a:xfrm>
            <a:off x="285840" y="42559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8"/>
          <a:stretch/>
        </p:blipFill>
        <p:spPr>
          <a:xfrm>
            <a:off x="285840" y="47149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9"/>
          <a:stretch/>
        </p:blipFill>
        <p:spPr>
          <a:xfrm>
            <a:off x="285840" y="51735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10"/>
          <a:stretch/>
        </p:blipFill>
        <p:spPr>
          <a:xfrm>
            <a:off x="285840" y="56228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11"/>
          <a:stretch/>
        </p:blipFill>
        <p:spPr>
          <a:xfrm>
            <a:off x="285840" y="607212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3" descr=""/>
          <p:cNvPicPr/>
          <p:nvPr/>
        </p:nvPicPr>
        <p:blipFill>
          <a:blip r:embed="rId1"/>
          <a:stretch/>
        </p:blipFill>
        <p:spPr>
          <a:xfrm>
            <a:off x="1000080" y="781200"/>
            <a:ext cx="7537320" cy="60055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2"/>
          <a:stretch/>
        </p:blipFill>
        <p:spPr>
          <a:xfrm>
            <a:off x="285840" y="2548080"/>
            <a:ext cx="5643360" cy="3981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3"/>
          <a:stretch/>
        </p:blipFill>
        <p:spPr>
          <a:xfrm>
            <a:off x="285840" y="2949480"/>
            <a:ext cx="5643360" cy="476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4"/>
          <a:stretch/>
        </p:blipFill>
        <p:spPr>
          <a:xfrm>
            <a:off x="285840" y="3479760"/>
            <a:ext cx="5643360" cy="3985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5"/>
          <a:stretch/>
        </p:blipFill>
        <p:spPr>
          <a:xfrm>
            <a:off x="285840" y="3827520"/>
            <a:ext cx="5643360" cy="3985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6"/>
          <a:stretch/>
        </p:blipFill>
        <p:spPr>
          <a:xfrm>
            <a:off x="285840" y="4276800"/>
            <a:ext cx="5643360" cy="3985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7"/>
          <a:stretch/>
        </p:blipFill>
        <p:spPr>
          <a:xfrm>
            <a:off x="285840" y="46846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8"/>
          <a:stretch/>
        </p:blipFill>
        <p:spPr>
          <a:xfrm>
            <a:off x="285840" y="51022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9"/>
          <a:stretch/>
        </p:blipFill>
        <p:spPr>
          <a:xfrm>
            <a:off x="285840" y="551988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10"/>
          <a:stretch/>
        </p:blipFill>
        <p:spPr>
          <a:xfrm>
            <a:off x="285840" y="59198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11"/>
          <a:stretch/>
        </p:blipFill>
        <p:spPr>
          <a:xfrm>
            <a:off x="285840" y="632772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477280" cy="56674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3" descr=""/>
          <p:cNvPicPr/>
          <p:nvPr/>
        </p:nvPicPr>
        <p:blipFill>
          <a:blip r:embed="rId2"/>
          <a:stretch/>
        </p:blipFill>
        <p:spPr>
          <a:xfrm>
            <a:off x="6500880" y="1878120"/>
            <a:ext cx="2209680" cy="22478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3"/>
          <a:stretch/>
        </p:blipFill>
        <p:spPr>
          <a:xfrm>
            <a:off x="285840" y="2897280"/>
            <a:ext cx="6167520" cy="3985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4"/>
          <a:stretch/>
        </p:blipFill>
        <p:spPr>
          <a:xfrm>
            <a:off x="285840" y="3357720"/>
            <a:ext cx="6167520" cy="3981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5"/>
          <a:stretch/>
        </p:blipFill>
        <p:spPr>
          <a:xfrm>
            <a:off x="285840" y="3805200"/>
            <a:ext cx="6167520" cy="3985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6"/>
          <a:stretch/>
        </p:blipFill>
        <p:spPr>
          <a:xfrm>
            <a:off x="285840" y="4255920"/>
            <a:ext cx="6167520" cy="3985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7"/>
          <a:stretch/>
        </p:blipFill>
        <p:spPr>
          <a:xfrm>
            <a:off x="285840" y="4707000"/>
            <a:ext cx="8786880" cy="4744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8"/>
          <a:stretch/>
        </p:blipFill>
        <p:spPr>
          <a:xfrm>
            <a:off x="285840" y="52452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9"/>
          <a:stretch/>
        </p:blipFill>
        <p:spPr>
          <a:xfrm>
            <a:off x="285840" y="57243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10"/>
          <a:stretch/>
        </p:blipFill>
        <p:spPr>
          <a:xfrm>
            <a:off x="285840" y="6143760"/>
            <a:ext cx="878688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6:56:10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